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6047-48CC-427B-8BCC-6E910F24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FA64-F9CE-4CFB-A750-F63E68A7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ABD7-5AB1-4739-9727-3260826A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6997-D59E-4E6F-B8DB-18932DD0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80F4-C6D0-4CB9-BB45-95D43A98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17A5-FD74-44DF-92D1-FF804BAB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C7E5-38D2-43F5-B763-53D6AA1F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DE85-821E-43CC-BC3C-89C503D1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BE2B-DCE4-43BD-8553-CE8AF9D9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E8FB-8FE2-4464-A0B8-39D0076A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C6B7-DDD6-4632-9C8A-747A6A13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5D35-54E0-4696-B3A3-D53AF6EB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2404-5AE1-4A94-9E66-EAA9F0E4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AFA4-5378-4EDE-9ECB-1D0476D5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6918-DBB1-4B68-9E00-8D7E8779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6FB0-DACF-46D9-ACD3-7BBA1C38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919C-6621-4D2C-8AD2-A786F58D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BFAC0-196B-4FC0-9E62-142B07EE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F8C68-281A-4A76-B27B-F6BCD113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D5150-CCF9-4AB4-8DFE-21CFE595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4AFFC-67DA-4224-A447-F8096733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985A1-8ACF-47D4-89CF-7CD92CA1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6B8A-4A66-47F7-A450-8DB33C6A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D62F7-F844-4810-9D43-737371A9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A6A7E-BA97-4DA3-AE45-AD3AFAA0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96C15-9655-489C-807B-62CB1095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8865C-1110-4BCA-869A-ED52AE87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8201A-0AB4-4DD3-89ED-B1AA6CA3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E49DD-D04A-42B6-AAA6-10BC32EC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E0FF9-4266-43C4-B07A-AB5B94B8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30995-64C3-4E11-949D-6137554C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16EE2-C1E3-455E-ADA3-08EE4755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6618E-A3F2-4A26-A0B1-4940144F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164A-50DD-4905-B426-EDEA8928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76E03-F0FC-4CE3-9AFC-086DA5AA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DF1D7-CFBF-452E-A812-3F5743B7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F7138-B004-4478-A9C5-5A04A65C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D3F55-42AB-47B5-AF35-C8A56D9C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5A523-B747-4C8E-8D9C-354D21DB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FBFD5-B68F-4BD3-96D2-0E0BDC03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F9372-D796-4347-B504-1FDFF8B1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7CAB6-07C2-4BAC-B50F-49EAC534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AD788-AA3B-4274-88BC-D3EC2C21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34F-8A7B-4C7A-8ED7-28D4C714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3B08-2718-4CDC-9C03-6D9F3EF2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9940-AEF2-4A63-A3F0-E22B4AE3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598-83F2-4F82-8B35-304CB945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4068-357C-40C5-ACEF-CD46D382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A19A-076C-4EAF-B3B1-2AF7CE8A04B5}" type="slidenum">
              <a:rPr b="0" lang="en-N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D913-C0D4-411C-9B84-8E6DF768B3F0}" type="slidenum">
              <a:rPr b="0" lang="en-NZ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3FFC-DC3F-4C7F-BB72-0F372B5C2883}" type="slidenum">
              <a:rPr b="0" lang="en-NZ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D43C-0B1D-44B0-84F7-94DBA30DFBD5}" type="slidenum">
              <a:rPr b="0" lang="en-N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04617b"/>
                </a:solidFill>
                <a:latin typeface="Calibri"/>
              </a:rPr>
              <a:t>                     </a:t>
            </a:r>
            <a:r>
              <a:rPr b="0" lang="en-NZ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ro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3000240" y="221472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nstantia"/>
              </a:rPr>
              <a:t>System Metap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ounded Rectangle 4"/>
          <p:cNvSpPr/>
          <p:nvPr/>
        </p:nvSpPr>
        <p:spPr>
          <a:xfrm>
            <a:off x="2928960" y="2071800"/>
            <a:ext cx="27860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ounded Rectangle 5"/>
          <p:cNvSpPr/>
          <p:nvPr/>
        </p:nvSpPr>
        <p:spPr>
          <a:xfrm>
            <a:off x="3071880" y="3500280"/>
            <a:ext cx="257184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ounded Rectangle 7"/>
          <p:cNvSpPr/>
          <p:nvPr/>
        </p:nvSpPr>
        <p:spPr>
          <a:xfrm>
            <a:off x="1000080" y="4714920"/>
            <a:ext cx="235764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ounded Rectangle 8"/>
          <p:cNvSpPr/>
          <p:nvPr/>
        </p:nvSpPr>
        <p:spPr>
          <a:xfrm>
            <a:off x="5143680" y="4714920"/>
            <a:ext cx="257148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3214800" y="21430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Metap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3429000" y="35719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1"/>
          <p:cNvSpPr/>
          <p:nvPr/>
        </p:nvSpPr>
        <p:spPr>
          <a:xfrm>
            <a:off x="1428840" y="485784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2"/>
          <p:cNvSpPr/>
          <p:nvPr/>
        </p:nvSpPr>
        <p:spPr>
          <a:xfrm>
            <a:off x="5429160" y="48578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Straight Arrow Connector 14"/>
          <p:cNvCxnSpPr/>
          <p:nvPr/>
        </p:nvCxnSpPr>
        <p:spPr>
          <a:xfrm>
            <a:off x="4356720" y="2714760"/>
            <a:ext cx="1080" cy="7862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6" name="Shape 18"/>
          <p:cNvCxnSpPr>
            <a:stCxn id="198" idx="3"/>
            <a:endCxn id="200" idx="0"/>
          </p:cNvCxnSpPr>
          <p:nvPr/>
        </p:nvCxnSpPr>
        <p:spPr>
          <a:xfrm>
            <a:off x="5643720" y="3857400"/>
            <a:ext cx="785880" cy="857880"/>
          </a:xfrm>
          <a:prstGeom prst="bentConnector2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7" name="Elbow Connector 24"/>
          <p:cNvCxnSpPr>
            <a:stCxn id="200" idx="2"/>
            <a:endCxn id="199" idx="2"/>
          </p:cNvCxnSpPr>
          <p:nvPr/>
        </p:nvCxnSpPr>
        <p:spPr>
          <a:xfrm flipV="1" rot="16200000">
            <a:off x="4268160" y="3411000"/>
            <a:ext cx="71640" cy="4250880"/>
          </a:xfrm>
          <a:prstGeom prst="bentConnector3">
            <a:avLst>
              <a:gd name="adj1" fmla="val -336363"/>
            </a:avLst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8" name="Shape 26"/>
          <p:cNvCxnSpPr>
            <a:stCxn id="199" idx="0"/>
            <a:endCxn id="198" idx="1"/>
          </p:cNvCxnSpPr>
          <p:nvPr/>
        </p:nvCxnSpPr>
        <p:spPr>
          <a:xfrm flipH="1" flipV="1" rot="5400000">
            <a:off x="2196360" y="3839760"/>
            <a:ext cx="857880" cy="893520"/>
          </a:xfrm>
          <a:prstGeom prst="bentConnector2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en-NZ" sz="45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4500"/>
            </a:br>
            <a:r>
              <a:rPr b="1" lang="en-NZ" sz="4500" spc="-1" strike="noStrike">
                <a:solidFill>
                  <a:srgbClr val="04617b"/>
                </a:solidFill>
                <a:latin typeface="Calibri"/>
              </a:rPr>
              <a:t>            </a:t>
            </a:r>
            <a:r>
              <a:rPr b="1" lang="en-NZ" sz="4500" spc="-1" strike="noStrike">
                <a:solidFill>
                  <a:srgbClr val="04617b"/>
                </a:solidFill>
                <a:latin typeface="Calibri"/>
              </a:rPr>
              <a:t>The System Metaphor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metaphor describes the basic idea and designated aims of the knowledge system to be implemente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It is used as a means of communication between the developer and the user of the system. Thus, the system metaphor describes a common </a:t>
            </a:r>
            <a:r>
              <a:rPr b="0" lang="en-N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of names and a common system descrip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</a:t>
            </a:r>
            <a:r>
              <a:rPr b="1" lang="en-NZ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lanning The Ga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The overall aim of planning the game is to maximize the value and to minimize the development costs of the system to be buil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The value is mainly defined by the consumer satisfaction derived from the usability, the functionality, and the correctness of the syste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en-NZ" sz="45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1" lang="en-NZ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he Implem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the planning game has arrived as a sequence of stories, the implementation phase is initiated. Then, each story is implemented in the determined order given by the elaborated pla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ly, implementation is done during the steering phase, so that new stories can be invented because of new requirements for the costum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   </a:t>
            </a:r>
            <a:r>
              <a:rPr b="0" lang="en-NZ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nteg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430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ous integration has many advantag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unit tests fail, or a bug is discovered, developers might revert the codebase back to a bug-free state, without wasting time debugging. Integration problems are detected and fixed continuous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warning of broken/incompatible code; Early warning of conflicting change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gration is finished when the integration test passes all valida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integration is done continuously, we can always access a running system at the integration uni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en-NZ" sz="4500" spc="-1" strike="noStrike">
                <a:solidFill>
                  <a:srgbClr val="04617b"/>
                </a:solidFill>
                <a:latin typeface="Calibri"/>
              </a:rPr>
              <a:t>                  </a:t>
            </a:r>
            <a:r>
              <a:rPr b="1" lang="en-NZ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en-NZ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Refer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Frank Puppe. </a:t>
            </a:r>
            <a:r>
              <a:rPr b="0" i="1" lang="en-NZ" sz="2000" spc="-1" strike="noStrike">
                <a:solidFill>
                  <a:srgbClr val="000000"/>
                </a:solidFill>
                <a:latin typeface="Constantia"/>
              </a:rPr>
              <a:t>Knowledge Reuse among Diagnostic Problem-Solving Methods in the Shell-Kit D3. International </a:t>
            </a: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Journal of Human-Computer Studies, 49:627–649, 199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Joachim Baumeister: </a:t>
            </a:r>
            <a:r>
              <a:rPr b="0" i="1" lang="en-NZ" sz="2000" spc="-1" strike="noStrike">
                <a:solidFill>
                  <a:srgbClr val="000000"/>
                </a:solidFill>
                <a:latin typeface="Constantia"/>
              </a:rPr>
              <a:t>Agile Development of Diagnostic Knowledge Systems, PhD Thesis (submitted), University </a:t>
            </a: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Würzburg, Germany, 2004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Kent Beck. </a:t>
            </a:r>
            <a:r>
              <a:rPr b="0" i="1" lang="en-NZ" sz="2000" spc="-1" strike="noStrike">
                <a:solidFill>
                  <a:srgbClr val="000000"/>
                </a:solidFill>
                <a:latin typeface="Constantia"/>
              </a:rPr>
              <a:t>Extreme Programming Explained: Embrace Change. Addison-Wesley Longman Publishing Co., </a:t>
            </a: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Inc., 200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Joachim Baumeister, Dietmar Seipel, and Frank </a:t>
            </a: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Puppe: </a:t>
            </a:r>
            <a:r>
              <a:rPr b="0" i="1" lang="en-NZ" sz="2000" spc="-1" strike="noStrike">
                <a:solidFill>
                  <a:srgbClr val="000000"/>
                </a:solidFill>
                <a:latin typeface="Constantia"/>
              </a:rPr>
              <a:t>Using Automated Tests and Restructuring Methods for an Agile Development of Diagnostic Knowledge Systems, </a:t>
            </a: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In Proc. of 17th International Florida Artificial Intelligence Research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3:07:30Z</dcterms:created>
  <dc:creator>ivor</dc:creator>
  <dc:description/>
  <dc:language>en-US</dc:language>
  <cp:lastModifiedBy>ivor</cp:lastModifiedBy>
  <dcterms:modified xsi:type="dcterms:W3CDTF">2009-11-17T02:02:06Z</dcterms:modified>
  <cp:revision>17</cp:revision>
  <dc:subject/>
  <dc:title>Slide 1</dc:title>
</cp:coreProperties>
</file>